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E665-0876-4F08-9992-4BC64CAF86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B017-F4D5-42E5-BDE7-B07E20CAE8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A457-0D53-4F30-A202-0469A66773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DBA5-70BF-4192-B5A1-9A16729747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672-A185-4C53-8056-7EABE157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EAE-1FE1-4C5D-98F1-B5CCA7E7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219EA-0D9B-402C-893E-18354BF6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0D6CA-FD41-44D3-BE76-E040CDE2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3BF3C-DFDA-4BB9-BB78-74C30D56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B2C3F-29DC-4F80-9C0D-E60A714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2D94A-C6BF-4463-88F3-28A5FE9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3A129-A7E7-49EE-8817-318F0150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6F91A-7183-48AA-9B11-47C3798B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A00BF-380E-4F31-92DD-9CC69114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D6288-2A2F-43EA-A71A-0D96621E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65AC0-7877-4AA2-A7BC-4ACAA1EB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58D-1241-4525-8779-8ABB07BD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DC45E-26AA-4E29-9F3D-89F8E051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9299A-2596-475D-B5E2-6F0CB17E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4B4A2-3E08-48AB-92B4-994B0C62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95DCF-4262-4EC0-9775-C5A67CCC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F08E8-7EAD-4885-805D-E2653AC0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521F5-5E02-480F-A956-394FF662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DC8FB-AAE6-4B74-96A1-0D9A2B83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F05EB-2CE8-4F6C-8E60-141102C2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B0D9D-0CBD-4DDF-8C9A-7CDD26E5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B6D702-A6F4-48A7-8817-52BEDACF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678-E13F-49F6-882E-8BEA5E6B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5393D-0DB4-4E1A-BB8E-60B1816B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D3552-B894-4788-A7EB-BF0F21A0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E6EFD-8024-424D-8494-2994745E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069C6-0CB5-4CA5-9901-4C9C08FE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FE4E1-0325-4CBD-868B-4ACE6375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4E7C0-A164-403B-AA4F-39F2F79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69EB7-E686-42E2-BD39-1F4BED67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C0A1B-3B5B-4D9C-A16F-0B5B5C1C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60835-05B0-4191-A498-244DF971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DF973-7F02-4614-B0E5-AB62465C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F818-3A1F-4598-9778-508D8D05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30171-C8F8-4F4C-BEFB-5BE06A95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57135-AB8E-46E4-A736-9073FE33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6995C-53BE-497E-98E7-7985AC10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B7786-346C-4F84-818E-AD8B6CE6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75BE5-26DF-4497-B685-5BF5CE7C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85F12-2BB9-47BA-A931-EA467E6B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CB5FF-F118-4E2F-8217-87B4A601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1863C-2766-4D87-94E3-E54E3F07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A1E6F-BA31-4B05-ACDB-B57E50B4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6CCF8-0215-4726-A8AE-82A0B89A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F85C-9266-4D3A-AAE0-D1AE8749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6BE39-90D6-463B-922D-23E684E1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DA0DD-1702-40DD-B5ED-E319B70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9494C-4472-46AA-B6DD-E787055D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0FC96-175C-4922-A14D-A4E3002D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54591-7D13-4129-BA74-4C688DBD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B009-311C-4E65-B9A3-640AEBCD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4734-451F-4779-9E40-0E9D5041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9F0E-F0B1-401D-9E70-F8E97BF8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3E46-D67E-488A-B013-74A6C708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A675-FDAD-4D25-B1A5-3C2AD855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501-5E14-4E67-8C9B-4D7FE8F8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6239-6CEF-4A71-9491-D7550C0C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9F46-C082-41AE-9E6F-C82C89E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92DC-26D8-408A-BDFB-90141646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2218-349B-4BA3-A5B7-EF5A10CE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9B42-E3F5-4A27-821F-68790048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77967-DC7B-4673-A29E-8493CD61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EC4C-F81B-4B4A-940C-CB7884B4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552C-C51B-4FAD-BB45-CC9AF2F6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3BA3-C207-47F0-85BF-D855939E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9A82-FF03-4E73-9DC5-1E31F18D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212-D4AC-438D-9167-926C9FA4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84FC-630B-4E26-B92C-E82BF93A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014C-F1EB-446B-A57E-ACE42A3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A27B-FF01-47BA-8F78-023BC06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2038-BBEB-4083-8CED-B975683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1C841-B900-4A36-A4E9-FD3337AC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4919-A977-4FF3-9CF4-46D8418A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B1292-D996-45E7-9EEC-BC19F4A2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B8097-5EAD-433A-89BF-FEB10378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9EA14-23DE-45D9-8C56-59EF4001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E68D-A675-4F6C-AFE9-8EA43452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C8B-5CD0-4935-BA9B-3493158A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8759-5243-41A1-AD7E-21C6EDD2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8942-DBD3-42FD-B1BF-22342F89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7827-4818-4D37-B824-AACCEA00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6A33-B0DD-417A-80D6-70E7589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7A5E-6965-447C-B4A1-7A8AF99A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F86E-EB04-497E-A061-C4C9820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21A57-3677-4B34-8659-E36253EF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E03C6-D6EC-4641-8C7A-EE792BFB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DDAC-C6F1-4E45-BB61-99BDC232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5BADA-5D0E-4102-BF23-0F711FB4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1AC-2BBF-4A83-94C5-31D87448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3EF6A-5BE2-476E-8654-B56ABDE0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75A07-D2C4-4B85-BEBC-B00BCC1F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56F45-8918-4BCF-910A-094C2D01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A7B83-003E-4231-A00C-8C31A210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C9E2E-6925-444B-9DD8-7F2D5C44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73D5E-AD9C-490F-85B0-07F7544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C738-58EC-4D41-8064-DB25EA99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347D7-9E3A-45FD-9EDC-5172D0B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59D90-9CBF-4524-A2C0-F4AC6FB5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D696F-73D3-4871-B7B4-33DEA0DF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71E-A8CE-4F45-976E-B2152742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BC23B-F53A-4E9B-B5D7-6BA6C0C5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27380-0D46-487F-BE6D-07F43B9C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CE956-2E85-4866-9790-F7685966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4743-E02F-4C46-A0D3-7855D08D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0253F-69E1-45AA-9023-0A4EE1FE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B6076-A0C2-41B2-9FD8-FBF4C8CC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18B08-48BA-4258-B2E1-6A83077D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47840-240E-4FE6-9B64-6AC3384D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8D52B-5101-4363-A816-A4FEF60E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55ED-0FBF-4C81-8E7C-1351AF7C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BB4-09CD-4DE2-A168-F499BFBD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BCF2-7E60-46FD-871F-D3F1C85A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9F204-3AFD-414C-B87A-D9C8E799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463B8-C1AD-4FDF-9CAB-077F8571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B9C6-E76D-455E-9B0D-9F202D7A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78C20-5A74-4C69-89FB-961B57D4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40E44-A99A-436D-8B79-6CD31EB8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2E18-4CB3-49F0-8FCB-714F5650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6A8D4-BA20-438C-B848-CD713D02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67B6-3331-4D6B-B2AA-1A970CA2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15C33-EED7-44D7-97B0-30DD6A8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5A9-4FA1-476F-9601-987A4E0B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5CAAE-6BDD-4878-8E1E-4446E31B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15AD-4518-48A3-96D9-97A65917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62F7A-824D-4BD1-A9D7-C98E935B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CC6BE-6B5D-4B53-A0A0-D931198D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25B7C-4A87-4C9C-9D82-D6B75018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BEEE0-B73D-4E76-A19C-55330487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6305-9832-4E36-B2C3-86D59920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04018-BC2E-40C5-BD7E-1416D696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46B13-0661-4C13-8248-D0CF694D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0A6DE-EBB1-48F8-8D46-2E369A16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17F-01F5-45AC-ABEA-852688DD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73D09-696A-4509-88B0-8C384E40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654AF-EED4-43BB-BA38-ADA7EA3C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3A9A8-1469-4C19-B551-34F8505B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3B505-95A7-40B2-A6CE-2AF79A34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29A38-C752-4A51-9736-E65E3266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1C28F-518D-45E2-B659-DB4E70F3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37BA3-D805-4033-A564-9E4397A8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69132-4247-4514-BE22-78C88C61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7CFEA-1E14-45FC-987B-EB8692FD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C4C29-D679-419A-A526-A8D3127F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B178-B744-4685-85C9-4E874B7B106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997F-6404-4C88-B0FE-279EA9DFDC5A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775-C0FF-4B86-9D68-BA396B969CF5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4B2E-2D2B-4630-A62E-41B81994481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6028-3EEE-45EA-88C8-FCEADA988F5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EED-6760-4286-A0D7-2568F0CFC934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336F-284D-4CF8-B9AE-DE293D1D242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0DBF-D8CE-482C-9F4B-7E71DF617EA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FFE3-848D-4898-9780-FA42C398D3FA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2FB3-31F4-4BBD-AE8D-9F4ABFF0E0E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B8B-C81B-4CA9-BD9E-14203DFB3FF8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0A7-13BE-4A57-958A-9893E12D07B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aalonderwijs.nl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FASE 4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Leerkring POW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wijzen naar boe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chternamen auteurs, voorletter (jaar van uitgave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Georgia"/>
              </a:rPr>
              <a:t>Volledige titel, eventueel subtitel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. Plaats: uitgev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eorgia"/>
              </a:rPr>
              <a:t>Tomesen, M. &amp; Kleef, M.  van (2002). </a:t>
            </a:r>
            <a:r>
              <a:rPr b="0" i="1" lang="nl-NL" sz="2200" spc="-1" strike="noStrike">
                <a:solidFill>
                  <a:srgbClr val="000000"/>
                </a:solidFill>
                <a:latin typeface="Georgia"/>
              </a:rPr>
              <a:t>Werken aan taalbewustzijn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Georgia"/>
              </a:rPr>
              <a:t>Prototype voor het stimuleren van fonologisch bewustzijn in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Georgia"/>
              </a:rPr>
              <a:t>betekenisvolle contexten.</a:t>
            </a:r>
            <a:r>
              <a:rPr b="0" lang="nl-NL" sz="2200" spc="-1" strike="noStrike">
                <a:solidFill>
                  <a:srgbClr val="000000"/>
                </a:solidFill>
                <a:latin typeface="Georgia"/>
              </a:rPr>
              <a:t> Nijmegen: Expertisecentrum Nederlands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wijzen naar internetbronn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chternaam auteurs, voorletter (publicatiejaar of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update). Titel  van het document of de websit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raadpleegd op  de dag maand jaar, adres websi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Georgia"/>
              </a:rPr>
              <a:t>Voorbeel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amhuis, R. &amp; Litjens, P. (2000). </a:t>
            </a: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Vragen? Ge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vragen!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Geraadpleegd op 7 oktober 2009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taalonderwijs.nl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wijzen naar kranten- en tijdschrif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chternaam auteurs, voorletter  (jaar v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uitgave). Titel artikel, eventueel subtitel</a:t>
            </a: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. Naa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van het tijdschrift of krant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, nummer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ginanummer(s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Georgia"/>
              </a:rPr>
              <a:t>Voorbeel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amhuis, R. &amp; Litjens. P. (2003). Drie werkwijz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mondelinge taalontwikkeling. </a:t>
            </a: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Taal Lez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Primair, nr. 10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, p17-19.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an de sla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oolontwikkeltaak (context stageschoo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lopige onderzoeksvra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elvra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p zoek naar goede literatuu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ga je nu doe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nemen stappenplan en Kallenberg e.a., hfdst. 3 en 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an het werk met Stap 1 en 2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rste oriëntatie op bruikbare literatuu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eel belangrijk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lkaars werk beoordelen en feedback gev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TS van elkaar overnemen of doorgeven aan anderen ivm fraud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óór de volgende bijeenkom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stap 1 en 2  in concept uitwerken, eventueel al stap 3 zetten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Stap 1: Het probleem in kaart breng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Stap 2: De onderzoeksvraa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Stap 3: Keuze van instrumenten én de onderbouwing hiervan met literatuur over het onderwerp én over onderzoek doen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Mail je werk vooraf naar de leerkringgroep én de docen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Neem elkaars stukken vóór de bijeenkomst door en noteer feedback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ragen?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el succes!       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Een leerkring: wat, hoe en waarom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öperatieve vorm van begelei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fficiënter, grotere opbreng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teractief leren / feedbac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resentatie en beoor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e onderne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 ontwikkelingsagenda van de stageschool als uitgangspu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band met beroepsrollen en competen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zoekscyclus in het kor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steuning in de leerkring en op de stagescho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Planning van de bijeenkom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le bijeenkomsten vinden plaats op vrijd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 worden bijeenkomsten ingepland in het rooster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ussendoor samenkomen kan op eigen initiatie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ndfeedback is nodig vóór je kunt present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krijgt twee keer feedback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assessment 4.1 stap in ieder geval stap 1 t/m 3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assessment 4.2. het hele onderzoe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s je feedback hebt gehad presenteer je je onderzoek in de leerkring en krijg je feedback van de groe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aste opbouw werkwijze leerkr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eorgia"/>
              </a:rPr>
              <a:t>1. Openingsrond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Mededelinge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Agendapunten vaststelle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Tijdsplanning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eorgia"/>
              </a:rPr>
              <a:t>2. Huishoudelijke rond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Organisati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eorgia"/>
              </a:rPr>
              <a:t>3. Inhoudelijke rond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Bespreken van de stukke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Vragen beantwoorde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Komen tot een gezamenlijke feedback (actieve deelname!!!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eorgia"/>
              </a:rPr>
              <a:t>3. Slotronde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Afronding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Afspraken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nderzoeksstappe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kwaliteit onderzoeksstapp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1: </a:t>
            </a: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schoolontwikkelingstaak, ambitie, behoefte,  probleem,  do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2: onderzoeksvraa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3: keuze onderzoeksinstrument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4: informatie verzamel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5: betekenis verlen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6: consequenties vastlegg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7: actie ondernem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8: evaluatie acti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ronnen en hulpmiddelen op de EL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appenplan Collectief Actieonderzo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elfhulppakket bij onderzo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zoeksvaardigheden m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beelden (PPT 0809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n.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llenbe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2" descr="C:\Documents and Settings\janv.ORGDOMSTAD.002\Bureaublad\9789006955125[1].jpg"/>
          <p:cNvPicPr/>
          <p:nvPr/>
        </p:nvPicPr>
        <p:blipFill>
          <a:blip r:embed="rId1"/>
          <a:stretch/>
        </p:blipFill>
        <p:spPr>
          <a:xfrm>
            <a:off x="6215040" y="2571840"/>
            <a:ext cx="24112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iteratuurstud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rg voor een degelijke literatuurstudie!!!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iteratuu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b050"/>
                </a:solidFill>
                <a:latin typeface="Georgia"/>
              </a:rPr>
              <a:t>Zorg voor een degelijke literatuurstudie!!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ff0000"/>
                </a:solidFill>
                <a:latin typeface="Georgia"/>
              </a:rPr>
              <a:t>Een tekst gebruiken zonder bronvermelding is plagiaat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rafraseren: in eigen woorden weerge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iteren: letterlijk overnemen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tussen aanhalingstekens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ld de bron na een parafrase en cita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s de APA nor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eg  aan het eind altijd een bronnenlijst to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e website fase 4: onderneming, literatuurverwijzing!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2:40:02Z</dcterms:created>
  <dc:creator>Ingrid Wijskamp</dc:creator>
  <dc:description/>
  <dc:language>en-US</dc:language>
  <cp:lastModifiedBy>jose.sagasser</cp:lastModifiedBy>
  <dcterms:modified xsi:type="dcterms:W3CDTF">2010-10-11T10:30:00Z</dcterms:modified>
  <cp:revision>17</cp:revision>
  <dc:subject/>
  <dc:title>Leerkring Taal</dc:title>
</cp:coreProperties>
</file>